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A1C-88F4-49AA-8181-BC1D33FB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070D-3C0E-4EF5-9EF6-A12F5DCC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DF8-B97A-406C-8203-E2DA257F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DE5-10F2-437D-928B-A91EC9CD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7E35-5204-4FAD-8B3B-2F594C3C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3BEF-58B3-413F-ACAF-8062FE51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A49F-3E56-4E75-9470-697FA4B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4C0E-0105-421E-B255-A20ACCAB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3F65-DC1D-4340-84A0-1F541F6A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673B-80B4-48E8-9879-B7ED35E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57E5-ACB5-4869-ADA9-1548119D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F3A-1BA9-4B52-B9F0-B78290C8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958-7755-4697-824C-3B8BC66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7DA9-FB28-4006-9C06-F85D47E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A2B-F518-415C-8DD3-F0131F0D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E958-C175-4833-8A8C-4660CA73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EB95-843A-48A1-B894-747F94DD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19A-7AE7-4D07-83D0-C7E13878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120-A49E-4717-AFF6-2DBC5C71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A7A-EED7-43F3-9415-98F44A64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603-A5A5-4CBD-827E-C018902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7F2-AB50-418C-B850-D49466AD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D5C-D7AF-451C-B4A5-8D455F40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002-227E-439E-80A8-63FEA81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1C31-1837-4874-9666-F0E7E027A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5456-6709-41AD-854D-3B1440F5D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3440" y="2997360"/>
            <a:ext cx="69832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CO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23Z</dcterms:created>
  <dc:creator>cgiovanny</dc:creator>
  <dc:description/>
  <dc:language>en-US</dc:language>
  <cp:lastModifiedBy>cgiovanny</cp:lastModifiedBy>
  <dcterms:modified xsi:type="dcterms:W3CDTF">2006-10-17T13:50:39Z</dcterms:modified>
  <cp:revision>1</cp:revision>
  <dc:subject/>
  <dc:title>Diapositiva 1</dc:title>
</cp:coreProperties>
</file>