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2AE-31E2-4D74-B73F-E41260A6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4BA0-2560-48AE-9A8B-987DABC0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151B-AFFA-4069-A334-2F02C336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223-74F2-4228-B739-C67EEE4D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72FA-5545-4B42-B663-DAA8208F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B62A-97A2-4C6C-A913-59287A86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C380-FBCC-4054-8F5C-693E9542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AE77-B488-4BCF-B834-FB109C97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43F-09CF-4D65-B2D6-9E49C6E5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FB23-2DFC-4B98-AB2A-F42C00DF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46E1-C389-473C-BB1B-6433B355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E4C-72E0-447D-8A8A-9271E7AF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B16C-99A5-4442-8144-25A1903DA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38400" y="2525760"/>
            <a:ext cx="84247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EMA CONT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74920" y="3529080"/>
            <a:ext cx="28796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FENI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9:54:43Z</dcterms:created>
  <dc:creator>cgiovanny</dc:creator>
  <dc:description/>
  <dc:language>en-US</dc:language>
  <cp:lastModifiedBy>cgiovanny</cp:lastModifiedBy>
  <dcterms:modified xsi:type="dcterms:W3CDTF">2006-09-14T14:24:54Z</dcterms:modified>
  <cp:revision>3</cp:revision>
  <dc:subject/>
  <dc:title>Diapositiva 1</dc:title>
</cp:coreProperties>
</file>