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5DE-89DC-4134-9B07-30423395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54F-83F8-4260-BFE9-5AF7A6E2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1A71-6159-4276-9F07-B3DD847A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CE1-A35F-4FF2-BAB7-032E11A6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8779-5323-4B31-9DB2-FFB78890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A6CC-EB43-429A-8577-08FFB2BE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CFEA-5BBC-4B07-9E7B-5BCCFE2F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E68A-9430-45CE-8439-D845D3F9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F22E-C903-445D-9A6C-F888FE15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9EAF-BC09-486D-BE5F-672EF3BF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3DB9-8258-4818-AC12-F71647D7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5852-0024-49B4-ADA3-4D1FB8DD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9934-096E-4069-8C0A-38BA7F82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6C06-5858-4645-BDBD-47AE7F05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84E6-A1B6-4A37-98E8-1EE45107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EF3C-7C0C-45B9-9F00-D246549A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364B-DDD1-4D3C-A302-205318EF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5AD-BEA7-4292-8E4E-838B0D21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C12-C008-4852-B2C4-44656D05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E046-ECFC-4DDA-ABFA-42316AC2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47A-D212-45F9-A05E-590BF13A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619-C9CC-4AA0-A3A4-48A45A53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075-A712-4A86-9AAC-5CD79A5A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1B0-32E0-45AD-A8F3-22771203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DC6A-BA83-49FB-BEBC-2FD108262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C618-D017-4138-99A4-9E4CE6043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9280" y="189000"/>
            <a:ext cx="54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DC Sistemas - Modulo Contabili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56000" y="1079640"/>
            <a:ext cx="863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7-05-23T16:50:10Z</dcterms:modified>
  <cp:revision>8</cp:revision>
  <dc:subject/>
  <dc:title>Diapositiva 1</dc:title>
</cp:coreProperties>
</file>