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F36-6D1C-4357-A866-9A0E8362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EACC-D235-460B-907D-B1991422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3A9-C0C6-4EEA-B504-84748D5B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CD1-8A40-4D2C-B501-759083F0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172-FA37-4EA7-86B0-42B9D1E9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C60-2568-4C36-8014-9E89E263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FE6-9445-4A9B-A88F-09EE3CEB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2F8-2EE6-4D45-ABA0-4A9BDB96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2808-62FB-4B13-AEED-C32DB429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197-2E36-4FC5-8535-CAF4B536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B14-0DB4-4AE8-9B7E-C9F7BA20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4B1-2DC3-48E0-804A-4C148809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566A-6C57-4C43-9B65-3B44E66FF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38400" y="2525760"/>
            <a:ext cx="8424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EMA CON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4920" y="3529080"/>
            <a:ext cx="28796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ENI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9:54:43Z</dcterms:created>
  <dc:creator>cgiovanny</dc:creator>
  <dc:description/>
  <dc:language>en-US</dc:language>
  <cp:lastModifiedBy>cgiovanny</cp:lastModifiedBy>
  <dcterms:modified xsi:type="dcterms:W3CDTF">2006-09-14T14:24:54Z</dcterms:modified>
  <cp:revision>3</cp:revision>
  <dc:subject/>
  <dc:title>Diapositiva 1</dc:title>
</cp:coreProperties>
</file>