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1D8-8C5F-4A3E-8E87-0C25EBA8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3E5-95A1-41FE-804E-30C9DD09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FBB-1E8D-452D-BEF4-A6791412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863-0BBE-4C55-A80A-C6B8E808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E023-168D-4C55-AFB7-7CB17268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B021-9983-439A-B4F0-0D8A1ED8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E1D9-1674-4E46-BD4F-7D48E64D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2A30-B2A4-4639-BE64-AE0CEDA3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DB99-F3CF-411D-9F49-2300B288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ED90-C781-4C4E-9920-DCD09DB0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0755-783C-49BC-95DF-17E28CEA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F4B-B317-4494-8C0C-9605C827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5553-3DF5-4133-9406-E6183E8F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73AD-4362-4E6D-AAFB-3E2F7FEC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9B80-56E1-4F11-8355-C251C4A6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8D8A-58F6-494C-B294-4D97FDE0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A90C-99FE-4FAA-A49D-6AF3C778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194-ACAD-44A6-ACFC-BB3D0EC1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611-8206-44B2-B5EC-7BAA6406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F3E-94FD-4F98-A1B0-3E6CBFC9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310-7795-47F9-963D-4CF24BD6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C8B-4CC5-4304-BED5-AEFE063C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23E-9562-4EAA-A62D-C3E46E9C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D07-6D35-4503-84F4-F83D45B9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1E85-599A-476D-9146-AC843F894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7849-A713-42AD-875D-F1F0BAC9B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3440" y="2997360"/>
            <a:ext cx="6983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C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6-10-17T13:50:39Z</dcterms:modified>
  <cp:revision>1</cp:revision>
  <dc:subject/>
  <dc:title>Diapositiva 1</dc:title>
</cp:coreProperties>
</file>