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30B7-464E-49DB-949D-70F7B92BC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2E65-0C2C-4126-97C7-DF145DCE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3D20-52C3-41B0-BEB0-A35440E2E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0193-54BC-45B3-AF41-763CFBF8E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B534-0049-49E1-B1DC-7B37BAB7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4BB0-152D-4538-B644-0D22D2AE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8E1A-C9F7-49EC-8F71-178FA8E5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C8AA-5545-467B-9A68-28A3AF85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01AE-8048-4EB5-B456-5F57BFF6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AE6B-05AF-4E8E-8903-2447E692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E81A-D215-4B4B-B067-45E2C8F7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8E48-FE00-4DBD-A90A-90C61B35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6184-CEC1-4F7D-BFCC-3C8D9FECB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38400" y="2525760"/>
            <a:ext cx="842472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SISTEMA CONTAB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274920" y="3529080"/>
            <a:ext cx="287964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FENI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9:54:43Z</dcterms:created>
  <dc:creator>cgiovanny</dc:creator>
  <dc:description/>
  <dc:language>en-US</dc:language>
  <cp:lastModifiedBy>cgiovanny</cp:lastModifiedBy>
  <dcterms:modified xsi:type="dcterms:W3CDTF">2006-09-14T14:24:54Z</dcterms:modified>
  <cp:revision>3</cp:revision>
  <dc:subject/>
  <dc:title>Diapositiva 1</dc:title>
</cp:coreProperties>
</file>