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BF16-0326-4AB7-BFB5-B7B9E7F58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1B6C-65B4-4AF5-8CB0-2CFE272E2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DD08-A7FC-4AF0-9D2E-679A578DE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31CA-9269-46EA-9F6D-7D949D823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A5967-B854-4F83-B285-FFE87E60A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46C86-D0C2-45F2-AC47-E7EEC4E3E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8952F-9893-4771-864F-925B868C0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0637D-0D41-4A85-8F60-CCB859A05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BC4F2-A7D9-4410-BA64-59AAFAFDB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B6116-5544-43CA-8EEE-62E31231C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DC41E-908B-4AFA-BA0C-D7ABB19A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61D1-0C87-42B7-9995-9951FE2D2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E7A26-0E5C-4513-BDB4-9DC622DD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C715E-193D-47FF-B781-1790AB97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9EB14-5E7E-408B-91C9-A37398F8C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86403-1296-4E31-927D-58FC0262C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660F0-47C2-4B2D-9D55-CF9060B4B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FCA5-4CB4-49CB-8E92-44F9FD382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9D77-E692-4ED3-92FE-6F3B318FF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2CD8-5BD4-4A4B-AB57-9BE82BB3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9753-B722-4B8E-A2BC-097B2662C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7BD4-E9EB-4622-841B-7E1E8347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66F1-D46B-4F88-97C5-1529C964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4B84-E7D8-4871-9C0E-70E3F779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062D-937B-443F-B125-B3E217F8C2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A94AF-AEF2-45FD-A571-CD564373A9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79280" y="189000"/>
            <a:ext cx="547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DC Sistemas - Modulo Contabilida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556000" y="1079640"/>
            <a:ext cx="86364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13:49:23Z</dcterms:created>
  <dc:creator>cgiovanny</dc:creator>
  <dc:description/>
  <dc:language>en-US</dc:language>
  <cp:lastModifiedBy>cgiovanny</cp:lastModifiedBy>
  <dcterms:modified xsi:type="dcterms:W3CDTF">2007-05-23T16:50:10Z</dcterms:modified>
  <cp:revision>8</cp:revision>
  <dc:subject/>
  <dc:title>Diapositiva 1</dc:title>
</cp:coreProperties>
</file>